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04400" cy="95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2050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416520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19320" y="712440"/>
            <a:ext cx="4851360" cy="36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61920" y="4589640"/>
            <a:ext cx="5367600" cy="4271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9099720"/>
            <a:ext cx="3205080" cy="474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4165200" y="9099720"/>
            <a:ext cx="3125880" cy="474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C987AB74-3ACB-4707-9330-9467D3A483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19320" y="712800"/>
            <a:ext cx="4851360" cy="363852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61920" y="4589640"/>
            <a:ext cx="5367600" cy="4271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is to match slides for rest of kit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87040" y="6572160"/>
            <a:ext cx="27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VIDIA Proprietary and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3480" y="48232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7040" y="6572160"/>
            <a:ext cx="27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VIDIA Proprietary and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3480" y="441792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3D Texturing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19280" y="5486400"/>
            <a:ext cx="6400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hn Spitz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Performance Consideration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9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 textures are very large and can evict other textures used in your scene – use judiciously and ensure you have space for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mipmaps to increase texture cache hits (and they don’t take much more spa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exture compression where fea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 texturing is slower than 2D textu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Questions?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to jspitzer@nvidia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What makes up a 3D texture?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3D array of tex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ed as a series of 2</a:t>
            </a:r>
            <a:r>
              <a:rPr b="1" lang="en-US" sz="2200" spc="-1" strike="noStrike" baseline="5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2D texture sl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n use same formats as 2D tex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lor can be compressed at 4 or 8 bits per tex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et of optional mipma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pmaps require 33% more memory in 2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3D textures, they require &lt;15% more memo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iltering m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_MIPMAP_NEARES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 2D is 4-tap; 8-tap in 3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_MIPMAP_LINEA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 2D is 8-tap; 16-tap in 3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parameters for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m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ure coordinate R, wrap mode for 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What are 3D textures used for?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id tex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metric data visual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linear color space conve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nuation ma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eo loo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independent billbo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olid Texture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s such as marble, wood, granite are stored in 3D tex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bitrary shapes have realistic appearance (more so than applying 2D textu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or utilization of precious texture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ter to render offline with procedural solid texture and extract 2D surface to use in realti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: Lapped Textures, SIGGRAPH 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Volumetric Data Visualization</a:t>
            </a: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 CT/MRI, geophysical, atmospheric or illumination data in 3D tex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nder in slices orthogonal to viewing vector, using blending to provide transpar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 for medical imaging, oil/gas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mes are huge, using lots of texture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slices necessary for good final im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slices are blended, using lots of bandwid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Non-linear Color Space Conversion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 RGB to CMYK or other color space via a 3D texture lookup (with interpol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good quality with high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endent 3D texture lookup requires all 4 texture units (3 dot products + dependent looku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fake “pixel texture” by supplying vertices representing pixel positions, but this would overwhelm the transform engine quick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Attenuation Ma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0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 per-pixel lighting attenuation in a 3D texture (could be 1-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xponential or oth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only 1 texture un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encapsulate a completely arbitrary falloff (need not be radially or cylindrically symmetri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not great with small volumes (32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32K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quality requires large texture (128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 2M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Video Loo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slice of a 3D texture represents a frame of a video loop – the R coordinate represents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frames to be “tweened” for f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end of the loop, texture wrapping allows the last frame to be blended with the first fr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have 2</a:t>
            </a:r>
            <a:r>
              <a:rPr b="1" lang="en-US" sz="2400" spc="-1" strike="noStrike" baseline="5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mber of reference frames (loop can filtered to accommodate this restri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View Independent Billboard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9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e various views of a given object in slices of the 3D tex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points may rotate around an object or represent views differing in ele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 twee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way to draw what looks like lots of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object symmetry or viewing restri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4T20:24:13Z</dcterms:created>
  <dc:creator>Nvidia Corporation</dc:creator>
  <dc:description/>
  <dc:language>en-US</dc:language>
  <cp:lastModifiedBy>Cem Cebenoyan</cp:lastModifiedBy>
  <cp:lastPrinted>1999-12-03T03:25:53Z</cp:lastPrinted>
  <dcterms:modified xsi:type="dcterms:W3CDTF">2000-11-22T21:34:19Z</dcterms:modified>
  <cp:revision>204</cp:revision>
  <dc:subject/>
  <dc:title>NV15 &amp; Vanta 2 GPU Update</dc:title>
</cp:coreProperties>
</file>